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49C8-9278-47AB-9598-FD0D651EBBA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A148-7639-4153-AE14-4A8A6C0B94EB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6D6A-7DE4-4068-BCDC-24288E2C8084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肛管排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8738-4891-4D0E-95A5-E01385C5B1C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BD90-A080-47F3-BB4D-897413BD41E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男患者导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7A05-0183-43BA-B7FF-F239B10FA175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气囊导尿管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1A38-726A-40CF-A27E-1C8B44B4033A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集尿袋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57D1-6E36-4551-8841-0078092423D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85B0-7786-4864-AB22-7A464321B095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A27E-1FC2-4012-9F87-E0E1582FD215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83DE-E672-458E-BF62-DCD34D362D3B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BA82-16E1-4064-A514-CD49733F91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9795-FE68-4B19-9DC7-6C68D00A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564E3-C941-4DF1-9A0E-DF0A8647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C15E-2836-4258-BF74-3752BE88A1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8CDD-6C5D-494F-9B8F-63BE2D49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E079-9B4C-4084-B7FC-C7BEC663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2E77-65B6-442E-9AEA-7C8F53FB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5F91-D655-4E41-879D-741B8398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1C6E-633B-42FA-A333-E6675CF3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4F34F-68C3-47BF-9A9F-E78EFCE0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953D-98B9-4AF7-9B12-C39243BB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6F2CF-0AC7-4087-B52C-2BAF4DE3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8F5E-4A11-4201-8CDC-64C61508E1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四章  排泄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368360"/>
            <a:ext cx="8329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尿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尿液排出体外的通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尿道：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个狭窄，即尿道内口、膜部和尿道外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个弯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耻骨下弯和耻骨前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尿道：长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较男性尿道短、直、粗，富于扩张性，尿道外口与阴道口、肛门相邻，发生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8000" y="1515960"/>
            <a:ext cx="8856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温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酸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温开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等量温开水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种植物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臀下垫橡胶单与治疗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连接、润滑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入灌肠液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嘱其尽量保留灌肠溶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mi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再排便。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排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时插管深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宜低，灌肠液注入的速度不得过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次抽吸灌肠液时应反折肛管尾段，防止空气进入肠道，引起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解释灌肠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药液灌入到直肠或结肠内，通过肠黏膜吸收达到治疗疾病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镇静、催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治疗肠道感染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142848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720" y="1590480"/>
            <a:ext cx="87850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及剂量遵医嘱准备，灌肠溶液量不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静、催眠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，剂量按医嘱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肠道感染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或其他抗生素溶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抬高臀部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润滑肛管、插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慢注入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整理床单位，清理用物，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选择稍细的肛管并且插入要深，液量不宜过多，压力要低，灌入速度宜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门、直肠、结肠手术的患者及大便失禁的患者，不宜做保留灌肠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留灌肠前嘱患者排便，肠道排空有利于药液吸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灌肠目的和病变部位，以确定患者的卧位和插入肛管的深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生成尿液是一个连续不断的过程，而膀胱的排尿则是间歇进行的。只有当尿液在膀胱内储存并达到一定量时，才能引起反射性的排尿动作，使尿液经尿道排出体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有关的疾病知识和保留灌肠的方法，正确配合治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肛管从肛门插入直肠，以排除肠腔内积气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帮助患者解除肠腔积气，减轻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排气装置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，润滑肛管，插管、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排气情况及患者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避免腹胀的方法，如增加活动、正确选择饮食类型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解释肛管排气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患者保持健康的生活习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无尿是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      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   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留置导尿者，措施不妥的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天更换集尿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更换导尿管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清洁尿道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嘱患者多喝水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止留置导尿前，间歇性夹闭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测试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尿失禁患者，措施不妥的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留置导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保持床单整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加强皮肤护理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控制饮水量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注意锻炼膀胱的自主反射排尿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当患者胆道完全梗阻时，因胆汁不能进入肠道，粪便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鲜红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暗红色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柏油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白陶土色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果酱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列哪项不是处理便秘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口服缓泻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鼓励患者做适当运动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灌肠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进食无渣食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腹部环形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皂水灌肠液的浓度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   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255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多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患者实施导尿术过程中应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遵守无菌技术原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导尿管污染后应立即更换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动作轻慢，防止尿道粘膜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尿潴留患者一次放完全部尿液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关闭门窗，屏风遮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41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适用于保留灌肠的溶液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8kPa 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出现尿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43kPa 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节律性收缩，患者可控制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86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→患者出现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案例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行胃大部切除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未排尿，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腹部胀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采取什么措施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解除痛苦？在操作中需要注意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男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诊断为直肠癌。准备次日在硬膜外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醉下行直肠癌根治术，术前常规做肠道清洁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选择什么方法为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者清洁肠道？操作中需要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楷体_GB2312"/>
              </a:rPr>
              <a:t>排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次数：成人白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：正常情况下每次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。尿量和排尿次数受多方面因素的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液的性状：颜色、透明度、酸碱反应、比重、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新鲜尿液呈淡黄色或深黄色，当尿液浓缩时，可见量少色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病理情况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的颜色可有以下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尿：洗肉水色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红蛋白尿：浓红茶色或酱油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红素尿：深黄色或黄褐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糜尿：乳白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尿液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鲜尿液清澈透明，放置后可出现微量絮状沉淀物， 加热、加酸或加碱后，尿液即可澄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情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系统感染时，新鲜尿液即呈白色絮状混浊，加热、加酸或加碱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混浊度不变。蛋白尿不影响尿液的透明度，但振荡时可产生较多且不易消失的泡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1142640"/>
            <a:ext cx="8479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酸碱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人尿液呈弱酸性，一般尿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饮食的种类可影响尿液的酸碱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中毒患者的尿液可呈强酸性，严重呕吐患者的尿液可呈强碱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3640" y="14954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比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成人的尿比重波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一般尿比重与尿量成反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尿比重经常固定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提示肾功能严重障碍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尿液气味来自尿内的挥发性酸。尿液久置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尿素分解产生氨，故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道有感染时新鲜尿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时，因尿中含有丙酮，故有烂苹果气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357200"/>
            <a:ext cx="817884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poly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情况：大量饮用液体、妊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情况：多由内分泌代谢障碍或肾小管浓缩功能不全引起，见于糖尿病、尿崩症、肾衰竭等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33992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列举异常排尿和异常排便的处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留置导尿时防止泌尿系统逆行感染的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阐述尿失禁的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括影响排便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异常排尿和异常排便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1486080"/>
            <a:ext cx="88200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热、液体摄入过少、休克等导致患者体内血液循环不足；心脏、肾、肝功能衰竭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odialysi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休克、急性肾衰竭、药物中毒等患者。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临床表现主要表现为尿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requ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g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ys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濒：单位时间内排尿次数增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急：患者突然有强烈尿意，不能控制需立即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痛：排尿时膀胱区及尿道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膀胱刺激征时常伴有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retention of urine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尿液大量存留在膀胱内而不能自主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及体征：下腹胀痛，排尿困难；耻骨上膨隆，扪及囊性包快叩诊呈实音，有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产生原因：机械性梗阻；动力性梗阻；其他各种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356840"/>
            <a:ext cx="87868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incontinence of urin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排尿失去意识控制或不受意识控制，尿液不自主地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假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充溢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真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：膀胱稍有一些存尿便会不自主地流出，膀胱处于空虚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与大脑皮层之间联系受损，排尿反射活动失去大脑皮层的控制，膀胱逼尿肌出现无抑制性收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、分娩所致的膀胱括约肌损伤或支配括约肌的神经损伤，病变所致膀胱括约肌功能不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与阴道之间有瘘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又称充溢性尿失禁，膀胱内贮存部分尿液，当膀胱充盈达到一定压力时，即可不自主溢出少量尿液。当膀胱内压力降低时，排尿即行停止，但膀胱仍呈胀满状态而不能排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活动受抑制，膀胱充满尿液，内压增高，迫使少量尿液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47640"/>
            <a:ext cx="82296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当咳嗽、打喷嚏或运动时腹肌收缩，腹内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致不自主地有少量尿液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括约肌张力减低、骨盆底部肌肉及韧带松弛、肥胖。多见于中老年女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3320" y="1371240"/>
            <a:ext cx="444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影响排尿因素的评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问题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和饮食的摄入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59320" y="2133360"/>
            <a:ext cx="4000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候变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及检查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因素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利用条件反射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、按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根据医嘱肌内注射卡巴可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上述处理仍不能解除尿潴留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采用导尿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7320" y="1643040"/>
            <a:ext cx="4800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排尿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  病情许可分时间段多饮水；定时给予便器协助排便；指导患者进行骨盆底部肌肉的锻炼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56636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长期尿失禁的患者，可行导尿术留置导尿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安慰支持使其树立恢复健康的信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与排尿有关的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导尿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严格无菌操作下，用导尿管经尿道插入膀胱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留置导尿管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etention 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导尿后，将导尿管保留在膀胱内，持续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膀胱冲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ladder irrig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利用三通的导尿管，将溶液灌入到膀胱内，再用虹吸原理将灌入的液体引流出来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导尿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出尿液，以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：如留取未受污染的尿标本作细菌培养；测量膀胱容量、压力及检查残余尿；进行尿道或膀胱造影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准备好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巾，保护床单不被污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男、女患者尿道解剖特点进行消毒、导尿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4560" y="1196640"/>
            <a:ext cx="9109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大阴唇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在患者两腿之间打开导尿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戴无菌手套，铺洞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整理用物，润滑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分别消毒尿道口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固定导尿管，将尿液引入弯盘或集尿袋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3132000" y="3213000"/>
            <a:ext cx="4105440" cy="3241440"/>
            <a:chOff x="3132000" y="3213000"/>
            <a:chExt cx="4105440" cy="3241440"/>
          </a:xfrm>
        </p:grpSpPr>
        <p:pic>
          <p:nvPicPr>
            <p:cNvPr id="156" name="Picture 5" descr="图14-1 留置导尿物品"/>
            <p:cNvPicPr/>
            <p:nvPr/>
          </p:nvPicPr>
          <p:blipFill>
            <a:blip r:embed="rId1"/>
            <a:stretch/>
          </p:blipFill>
          <p:spPr>
            <a:xfrm>
              <a:off x="3132000" y="3213000"/>
              <a:ext cx="41054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6"/>
            <p:cNvSpPr/>
            <p:nvPr/>
          </p:nvSpPr>
          <p:spPr>
            <a:xfrm>
              <a:off x="4879800" y="6086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无菌导尿包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4560" y="1267920"/>
            <a:ext cx="88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阴茎、阴囊、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同女性患者导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再次消毒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提起阴茎，与腹壁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将尿液引入弯盘或集尿袋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管、倒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取标本  若需作尿培养，用无菌标本瓶接取中段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盖好瓶盖，放置合适处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睡卧舒适，收拾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尿量，尿标本贴标签后送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操作过程中注意保护患者的隐私，并采取适当的措施防止患者着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膀胱高度膨胀且极度虚弱的患者，第一次放尿不得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防止血尿和虚脱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解剖与生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的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异常的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女性尿道口回缩，插管时应仔细观察、辨认，避免误入阴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女患者插尿管时，如导尿管误入阴道，应另换无菌导尿管重新插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避免损伤和导致泌尿系统的感染，必须掌握男性和女性尿道的解剖特点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1912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讲解导尿的目的和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会患者如何配合操作，减少污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介绍相关疾病的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手术排空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泌尿系统疾病手术后留置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904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6040" y="1283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、核对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 同导尿术插入导尿管，见尿后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 根据导尿管上注明的气囊容积向气囊注入等量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，轻拉导尿管有阻力感，即证实导尿管固定于膀胱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集尿袋  连接集尿袋，用橡皮圈和安全别针将集尿袋的引流管固定在床单上，开放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导尿术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腔气囊导尿管固定时要注意膨胀的气囊不能卡在尿道内口，以免气囊压迫膀胱壁，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留置导尿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参与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摄取足够的水分和进行适当的活动对预防泌尿道感染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引流通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导尿管受压、扭曲、堵塞等导致泌尿系统的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离床活动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妥善固定导尿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防导尿管脱出。集尿袋不得超过膀胱高度并避免挤压，防止尿液返流导致感染的发生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560" y="1309320"/>
            <a:ext cx="8893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泌尿系统逆行感染的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。女患者用消毒液棉球擦拭外阴及尿道口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男患者用消毒液棉球擦拭尿道口、龟头及包皮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周更换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，若有尿液性状、颜色改变需及时更换。及时排空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并记录尿量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定期更换导尿管，尿管的更换频率根据导尿管的材质决定，一般为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周更换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尿有关的解剖与生理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0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泌尿系统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输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达到自然冲洗尿路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，可采用间歇性夹管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闭导尿管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使膀胱定时充盈和排空，促进膀胱功能的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患者的主诉并观察尿液情况，发现尿液混浊、沉淀、有结晶时，应及时处理，每周尿常规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留置导尿管的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其尿液引流通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膀胱  清除膀胱内的血凝块、黏液、细菌等异物，预防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某些膀胱疾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膀胱炎，膀胱肿瘤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90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密闭式膀胱冲洗术为例，用物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冲洗溶液：生理盐水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02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呋喃西林液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硼酸液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溶液。灌入溶液的温度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若为前列腺肥大摘除术后患者，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灌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、固定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空膀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好冲洗装置，准备冲洗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5688000" y="1773360"/>
            <a:ext cx="3456000" cy="3124440"/>
            <a:chOff x="5688000" y="1773360"/>
            <a:chExt cx="3456000" cy="3124440"/>
          </a:xfrm>
        </p:grpSpPr>
        <p:pic>
          <p:nvPicPr>
            <p:cNvPr id="177" name="Picture 5" descr="图14-2 Y型膀胱冲洗管"/>
            <p:cNvPicPr/>
            <p:nvPr/>
          </p:nvPicPr>
          <p:blipFill>
            <a:blip r:embed="rId1"/>
            <a:stretch/>
          </p:blipFill>
          <p:spPr>
            <a:xfrm>
              <a:off x="5688000" y="1773360"/>
              <a:ext cx="34560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"/>
            <p:cNvSpPr/>
            <p:nvPr/>
          </p:nvSpPr>
          <p:spPr>
            <a:xfrm>
              <a:off x="6825600" y="452952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46ca6"/>
                  </a:solidFill>
                  <a:latin typeface="Arial"/>
                </a:rPr>
                <a:t>Y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型膀胱冲洗管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膀胱：关闭引流管，开放冲洗管，使溶液滴入膀胱，调节滴速。待患者有尿意或滴入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，关闭冲洗管，放开引流管，将冲洗液全部引流出来后，再关闭引流管，按需要如此反复冲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外阴部，固定好导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06280" y="1135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黏膜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时嘱患者深呼吸，尽量放松，以减少疼痛若患者有腹痛、腹胀、膀胱收缩剧烈等情形，应暂停冲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如出血较多或血压下降，应立即报告医生给予处理，并注意准确记录冲洗液量及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膀胱冲洗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配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说明摄取足够水分的重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天饮水量应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产生足够的尿量冲洗尿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达到预防感染发生的目的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857160" y="2214720"/>
            <a:ext cx="80773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宋体"/>
              </a:rPr>
              <a:t>第二节  排便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肾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对的实质性器宫，位于脊柱两侧，第十二胸椎和第三腰椎之间，贴于腹后壁，呈蚕豆状，右肾略低于左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6348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解剖与生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便有关的解剖与生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52532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解剖：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起自回肠末端止于肛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盲肠：大肠与小肠的衔接部分，其内有回盲瓣，起括约肌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：分升结肠、横结肠、降结肠和乙状结肠，围绕在小肠周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肠：全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有两个弯曲：骶曲和会阴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管：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大肠的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吸收水分、电解质和维生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形成粪便并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利用肠内细菌制造维生素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袋状往返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节或多袋推进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十二指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蠕动将粪便推入直肠，刺激直肠壁内的感受器，其兴奋冲动经盆神经和腹下神经传至脊髓腰骶段的初级排便中枢，同时上传到大脑皮质，引起便意和排便反射。此外，由于支配腹肌和膈肌的神经兴奋，腹肌、膈肌收缩，腹内压增加，共同促进粪便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次数：成人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婴幼儿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每天排便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（成人）或每周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应视为排便异常如腹泻、便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量：成人每天排便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的性状：形状与软硬度、颜色、内容物、气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5560" y="1809360"/>
            <a:ext cx="85071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形状与软硬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为成形软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时粪便坚硬、呈栗子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或急性肠炎可为稀便或水样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部分梗阻或直肠狭窄，粪便常呈扁条形或带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686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正常颜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成人的粪便为黄褐色或棕黄色。婴儿的粪便呈黄色或金黄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异常颜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柏油样便：为上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陶土色便：胆道梗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下暗红色血便：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果酱样便：肠套叠、阿米巴痢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表面粘有鲜红色血液：痔疮或肛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米泔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样便：霍乱、副霍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内容物主要为食物残渣、脱落的大量肠上皮细胞、细菌以及机体代谢后的废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感染或出血，粪便中可见混入或粪便表面附有血液、脓液或肉眼可见的黏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寄生虫感染，粪便中可查见蛔虫、蛲虫、绦虫节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7168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尿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代谢产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节水、电解质及酸碱平衡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分泌的功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时粪便气味因膳食种类而异，肉食者味重，素食者味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腹泻患者的粪便呈碱性反应气味极恶臭。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消化道溃疡、恶性肿瘤患者的粪便呈腐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消化道出血的柏油样粪便呈腥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、乳糖类未充分消化或吸收脂肪酸产生气体，粪便呈酸性反应，气味为酸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异常排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嵌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排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胀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排便因素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因素：年龄、个人排泄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：精神抑郁、情绪紧张、焦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与活动：食物与液体摄入、活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疾病有关的因素：疾病、药物、治疗检查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14954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nstip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正常的排便形态改变，排便次数减少，排出过干过硬的粪便，且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未建立排便习惯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、饮水、运动不当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低落；疾病、怀孕、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2"/>
          <p:cNvSpPr/>
          <p:nvPr/>
        </p:nvSpPr>
        <p:spPr>
          <a:xfrm>
            <a:off x="6528600" y="285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排便异常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头痛、腹痛、腹胀、食欲不佳、消化不良、舌苔变后，粪便干硬。触诊腹部较硬，紧张，可触及包块，肛诊可触及粪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mpac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粪便持久滞留堆积在直肠内，坚硬不能排出。常发生于慢性便秘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未能及时解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便意、腹胀、无法排出粪便、少量液化粪便流出、直肠肛门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iarrhe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正常排便形态改变，频繁排出松散稀薄的粪便甚至水样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不当或使用泻剂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紧张焦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系统发育不成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内分泌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和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痛、肠痉挛、疲乏、恶心、呕吐、肠鸣、有急于排便的需要和难以控制的感觉。粪便松散或呈液体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排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ncontin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肛门括约肌不受意识的控制而不自主地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肌肉系统的病变或损伤如瘫痪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、情绪失调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患者不自主地排出粪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46040" y="1483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五）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胀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latul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胃肠道内有过量气体积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食入产气性食物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入大量空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蠕动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梗阻及肠道手术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904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肾和膀胱的细长肌性管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各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输尿管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有三个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始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跨骨盆入口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穿膀胱壁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将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1295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适当的排便环境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取适宜的排便姿势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部环形按摩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口服缓泻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简易通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35684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灌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正常的排便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理安排膳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运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145224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期可使用栓剂、口服缓泻剂来润肠通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先行油类保留灌肠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再做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取便：用人工取便易刺激迷走神经，故心脏病、脊椎受损者须慎重使用。操作中如患者 出现心悸、头昏时须立刻停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知识的健康教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卧床休息，减少肠蠕动，注意腹部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膳食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防治水和电解质紊乱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维持皮肤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密切观察病情，记录排便的性质、次数等，必要时留取标本送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相关知识的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皮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控制排便的能力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无禁忌，保证患者每天摄入足量的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床褥、衣服清洁，室内空气清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肠胀气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养成良好的饮食习惯（细嚼慢咽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引起肠胀气的原因。如勿食产气食物和饮料，积极治疗肠道疾患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鼓励患者适当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轻微胀气时，可行腹部热敷或腹部按摩、针刺疗法。严重胀气时，遵医嘱给予药物治疗或行肛管排气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与排便有关的护理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（一）灌肠法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(enema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一定量的液体由肛门经直肠灌入结肠，以帮助患者清洁肠道、排便、排气或由肠道供给药物或营养，达到确定诊断和治疗目的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360" y="145224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肠的目的：分为保留灌肠和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入的液体量：将不保留灌肠分为大量不保留灌肠和小量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为了达到清洁肠道的目的，而反复使用大量不保留灌肠，则为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储存尿液的有伸展性的囊状肌性器官，位于小骨盆内、耻骨联合的后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的肌层由三层纵横交错的平滑肌组成，称为膀胱逼尿肌，排尿时需靠此肌肉收缩来协助完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贮存尿液和排泄尿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除便秘、肠胀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肠道。为肠道手术、检查或分娩作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稀释并清除肠道内的有害物质，减轻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入低温液体，为高热患者降温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164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94840" y="1196640"/>
            <a:ext cx="816444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溶液：常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肥皂液，生理盐水。成人每次用量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小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一般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1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降温时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中暑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灌肠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2916360" y="4122720"/>
            <a:ext cx="3384360" cy="2737080"/>
            <a:chOff x="2916360" y="4122720"/>
            <a:chExt cx="3384360" cy="2737080"/>
          </a:xfrm>
        </p:grpSpPr>
        <p:pic>
          <p:nvPicPr>
            <p:cNvPr id="226" name="Picture 5" descr="图14-3 一次性灌肠用物"/>
            <p:cNvPicPr/>
            <p:nvPr/>
          </p:nvPicPr>
          <p:blipFill>
            <a:blip r:embed="rId1"/>
            <a:stretch/>
          </p:blipFill>
          <p:spPr>
            <a:xfrm>
              <a:off x="2916360" y="4122720"/>
              <a:ext cx="33843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6"/>
            <p:cNvSpPr/>
            <p:nvPr/>
          </p:nvSpPr>
          <p:spPr>
            <a:xfrm>
              <a:off x="4430520" y="6491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灌肠器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并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橡胶单和治疗巾于臀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盖好被子，暴露臀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灌肠器、戴手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润滑肛管、排气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675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筒内液面下降和患者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、嘱其尽量保留灌肠液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排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用物、采集标本、按相关要求处理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在体温单大便栏目处记录灌肠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-360" y="1357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妊娠、急腹症、严重心血管疾病等患者禁忌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伤寒患者灌肠时溶液不得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要低（液面不得超过肛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肝昏迷患者灌肠时，禁用肥皂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确掌握灌肠溶液的温度、浓度、流速、压力和溶液的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时患者如有腹胀或便意时，应嘱患者作深呼吸，以减轻不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过程中应随时注意观察患者的病情变化，如发现脉速、面色苍白、出冷汗、剧烈腹痛、心慌气急时，应立即停止灌肠并及时与医生联系，采取急救措施。</a:t>
            </a: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灌肠时的配合方法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人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腹部或盆腔手术后的患者、危重患者、年老体弱、小儿及孕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软化粪便，解除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除肠道内的气体，减轻腹胀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12:55Z</dcterms:modified>
  <cp:revision>251</cp:revision>
  <dc:subject/>
  <dc:title>内科护理学</dc:title>
</cp:coreProperties>
</file>